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5120-D543-4BF3-BDB3-2D027FEC4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6B39-629E-4246-B790-66EC9F1D0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742C-05BB-49B1-BE66-C62CFDE1A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836B-3953-4C2E-9F9E-79AF97617C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F4C9F-BAA7-4DBC-AD86-52AFC32179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20A3-0E8F-477D-9775-FF644F2EC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6D87-23F5-451C-91E9-99EA140AE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2EA0-05B6-4AFE-9E08-15B433195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531C-1FA8-404B-B92B-D5D8A096E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C20E-6066-4D9E-9795-62F6FBEA5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8DCF-3BC0-42EA-AC7B-F2B638132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F7F1-916A-4839-87D0-9BE604F69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DB76-E29E-4751-B094-CFE86BB5F20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88200" y="1752480"/>
            <a:ext cx="728856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lternative Fuel Survey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echnical Advisory Committee Me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ecember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,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eliability and Operations Subcommittee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resented by ERCOT Client Re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47400" y="1731960"/>
            <a:ext cx="65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Can the unit start up on its alternative fu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560" y="327672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119 operational dual fuel capable uni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6600" y="4114800"/>
            <a:ext cx="758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Start up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6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7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5200" y="1752480"/>
            <a:ext cx="854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Can the unit operate at maximum capacity using only 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alternative fuel or does it need a combination of prima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and alternative fu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560" y="327672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119 operational dual fuel capable uni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80" y="4114800"/>
            <a:ext cx="9135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Operation at 100% Capacity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lt. Fuel Only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7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eed Mixture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7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9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9200" y="1579680"/>
            <a:ext cx="899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If a combination of fuels is needed to operate the uni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what is the percentage of alternative fuel needed to ope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at the unit’s maximum capac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6880" y="3505320"/>
            <a:ext cx="72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47 operational dual fuel capable units that need a mix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2160" y="4495680"/>
            <a:ext cx="834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Operation at 100% Capacity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Alternate Fuel needed at 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eed Mixture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0%(Avera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ide range of respon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40560" y="1579680"/>
            <a:ext cx="77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Do you regularly test the unit’s ability to operate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its alternative fu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560" y="327672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119 operational dual fuel capable uni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6920" y="4114800"/>
            <a:ext cx="84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Regularly Tested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7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8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52800" y="1579680"/>
            <a:ext cx="715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If yes, how often do you test the unit’s ability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operate on its alternative fu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9480" y="3276720"/>
            <a:ext cx="70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62 operational dual fuel capable units that test regularl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5720" y="4114800"/>
            <a:ext cx="849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Testing Period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0-6 Month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6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6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7-12 Month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6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-2 Year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5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8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8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16080" y="1808280"/>
            <a:ext cx="64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Do you maintain alternative fuel inventor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560" y="327672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119 operational dual fuel capable uni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80" y="4114800"/>
            <a:ext cx="91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Maintain Fuel Inventory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1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94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9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7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6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5040" y="1876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3960" y="1884240"/>
            <a:ext cx="858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Do you currently have air emission permits to operate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unit using the secondary fu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560" y="327672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119 operational dual fuel capable uni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5720" y="4114800"/>
            <a:ext cx="84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Air Permit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15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97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9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4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50400" y="1447920"/>
            <a:ext cx="876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How many hours in a rolling 12 month period can the un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operate using its alternative fuel, at maximum sustain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capacity, and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Book Antiqua"/>
              </a:rPr>
              <a:t>complying with</a:t>
            </a: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 air e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limi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520" y="3276720"/>
            <a:ext cx="88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2 of the 119 operational dual fuel capable units that responded to this qu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5720" y="3809880"/>
            <a:ext cx="849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Hours w/ Lim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0-10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1-2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01-3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01-4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01-5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00-10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8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4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01-20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001-50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000-876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2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18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39840" y="1676520"/>
            <a:ext cx="790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How many hours in a rolling 12 month period can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unit operate using its alternative fuel, at maximu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sustainable capacity and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Book Antiqua"/>
              </a:rPr>
              <a:t>ignoring</a:t>
            </a: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 emissions limi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520" y="3276720"/>
            <a:ext cx="88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75 of the 119 operational dual fuel capable units that responded to this qu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6880" y="3809880"/>
            <a:ext cx="793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Hours w/o Lim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0-10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7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4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1-2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01-3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01-4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01-5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00-10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01-20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001-50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000-876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38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3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9560" y="1447920"/>
            <a:ext cx="74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How many hours can the unit ope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Book Antiqua"/>
              </a:rPr>
              <a:t>using your current inventory</a:t>
            </a: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 of alternative fue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at its maximum sustainable capac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6880" y="3352680"/>
            <a:ext cx="793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Hours w/o Lim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0-1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4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1-2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7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6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1-3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1-4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8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7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1-5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8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7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1-1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3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1-2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6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01-3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01-4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01-5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01-10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880" y="2819520"/>
            <a:ext cx="89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10 of the 119 operational dual fuel capable units that responded to this qu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9960" y="1800360"/>
            <a:ext cx="737100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rvey Participan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esource Entities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eneration Units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rvey responden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esource Entities/Percentage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93  /  8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eneration Units/Percentage -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17  /  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W represented by Respondents -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95% of ERCOT To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1932120"/>
            <a:ext cx="7620120" cy="4925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08840" y="1522440"/>
            <a:ext cx="53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Hours of Operation on current inven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7925040" cy="4770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608840" y="1522440"/>
            <a:ext cx="53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Hours of Operation on current inven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16160" y="1800360"/>
            <a:ext cx="72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If the unit's alternative fuel is oil, how many barrels of oil do yo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currently maintain for all units at the plant as invento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9160" y="3276720"/>
            <a:ext cx="72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Wide range of respon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ata will be presented to ROS and included in the final re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8600" y="1731960"/>
            <a:ext cx="84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How many hours does it take to switch fuels and ope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the unit using its alternative fuel at its maximu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sustainable lim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304812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119 operational dual fuel capable uni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3120" y="3587760"/>
            <a:ext cx="7729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Hours to Switch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% of Out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6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5%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46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39%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2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9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6%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8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7%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5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3%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28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6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2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0%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6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5%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2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3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3%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5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2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2%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24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1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1%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48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1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1%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2133720"/>
            <a:ext cx="8686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3124080"/>
            <a:ext cx="312408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40840" y="188136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What is the Unit’s Primary Fuel Typ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7680" y="2943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5120" y="2362320"/>
            <a:ext cx="7875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Primary Fue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atural Ga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23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8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7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ignite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ituminous Coa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b Bituminous Coa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uclear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ind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7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urchased Steam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etroleum Coke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0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andfill Ga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istillate Fuel Oi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9520" y="6248520"/>
            <a:ext cx="67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ut of the 517 total units represented by survey respon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3000" y="1905120"/>
            <a:ext cx="81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Is the Unit capable of operating on an alternative fu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352680"/>
            <a:ext cx="883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</a:rPr>
              <a:t>Dual Fuel Capability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</a:rPr>
              <a:t>% of MW Capa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48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9%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69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1%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9%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5920" y="5791320"/>
            <a:ext cx="75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ll dual fuel capable units had Natural gas as the Primary Fu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45760" y="1884240"/>
            <a:ext cx="49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What is the alternative fuel typ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12408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Alternate Fue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istillate Fuel Oi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baseline="30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19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80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8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esidual Fuel Oil</a:t>
            </a:r>
            <a:r>
              <a:rPr b="0" lang="en-US" sz="18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8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ther Ga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Jet Fue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pane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ota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        1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83320" y="6218280"/>
            <a:ext cx="5002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1 – Diesel, No 1 Fuel Oil, No 2 Fuel Oil, No 4 Fuel 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2 – No 5 Fuel Oil, No 6 Fuel 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3 – Butane, Coal Processes, Coke-oven Coal, Methanol, Refinery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1600" y="2514600"/>
            <a:ext cx="42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ut of the 148 dual fuel capable uni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0160" y="1608120"/>
            <a:ext cx="67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What is the unit’s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Book Antiqua"/>
              </a:rPr>
              <a:t>maximum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net sustain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limit when using its alternative fu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58128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Alternate Fue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Registered Output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Max. Net Sustainable Output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istillate Fuel Oi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baseline="30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23,06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8,349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esidual Fuel Oil</a:t>
            </a:r>
            <a:r>
              <a:rPr b="0" lang="en-US" sz="18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3,395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,124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ther Ga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   757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71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Jet Fue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   164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15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pane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     8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 7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ota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27,458 MW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2,410  MW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6680" y="2743200"/>
            <a:ext cx="42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ut of the 148 dual fuel capable uni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7600" y="1905120"/>
            <a:ext cx="890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Does the unit have the needed infrastructure in pl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for alternative fuel delivery, storage, and fuel managem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4114800"/>
            <a:ext cx="84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Infrastructure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45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98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9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3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6680" y="3429000"/>
            <a:ext cx="38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148 dual fuel capable uni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32640" y="173196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Is the dual fuel capacity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Book Antiqua"/>
              </a:rPr>
              <a:t>currently operational</a:t>
            </a: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6680" y="3276720"/>
            <a:ext cx="38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148 dual fuel capable uni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6600" y="4114800"/>
            <a:ext cx="84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Operationa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19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80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8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9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0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8440" y="1579680"/>
            <a:ext cx="898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Can the unit operate on Automatic Generation Control (AG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when using its alternative fu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560" y="327672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119 operational dual fuel capable uni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600" y="4114800"/>
            <a:ext cx="84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Operational on AGC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6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5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7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3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5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4:39:13Z</dcterms:created>
  <dc:creator>adeller</dc:creator>
  <dc:description/>
  <dc:language>en-US</dc:language>
  <cp:lastModifiedBy>Ann S. Boren</cp:lastModifiedBy>
  <dcterms:modified xsi:type="dcterms:W3CDTF">2004-12-06T15:43:08Z</dcterms:modified>
  <cp:revision>8</cp:revision>
  <dc:subject/>
  <dc:title>Slide 1</dc:title>
</cp:coreProperties>
</file>